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slide" Target="slide19.xml"/><Relationship Id="rId12" Type="http://schemas.openxmlformats.org/officeDocument/2006/relationships/image" Target="../media/image7.wmf"/><Relationship Id="rId13" Type="http://schemas.openxmlformats.org/officeDocument/2006/relationships/slide" Target="slide21.xml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image" Target="../media/image9.wmf"/><Relationship Id="rId17" Type="http://schemas.openxmlformats.org/officeDocument/2006/relationships/slide" Target="slide5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"/>
          <p:cNvSpPr txBox="1"/>
          <p:nvPr/>
        </p:nvSpPr>
        <p:spPr>
          <a:xfrm>
            <a:off x="958680" y="2787480"/>
            <a:ext cx="6989760" cy="231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Hillsborough Squar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7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1523880" y="55627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iteration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969920" y="0"/>
            <a:ext cx="4851720" cy="50785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828720" y="5324400"/>
            <a:ext cx="70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indirect reference to a mythological, literary, or historical person, place, person or  th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usion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828720" y="5818320"/>
            <a:ext cx="76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An image which stands for something larger than itsel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828720" y="5238720"/>
            <a:ext cx="7638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cement of opposite ideas in a similar grammatical structur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8720" y="579744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tithesi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817560" y="5334120"/>
            <a:ext cx="763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ds or phrases a writer uses to represent persons, object ,action, feelings and ideas descriptively by appealing to the sense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990720" y="5867280"/>
            <a:ext cx="76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mager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08040" y="533412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ord choice intended to convey a certain effect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llian  arias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Text Box 5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ction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8720" y="5334120"/>
            <a:ext cx="763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eemingly contradictory statement which proves true when you think about i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adox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75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76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77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78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79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WordArt 80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"/>
          <p:cNvPicPr/>
          <p:nvPr/>
        </p:nvPicPr>
        <p:blipFill>
          <a:blip r:embed="rId11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"/>
          <p:cNvPicPr/>
          <p:nvPr/>
        </p:nvPicPr>
        <p:blipFill>
          <a:blip r:embed="rId12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/>
          <p:cNvPicPr/>
          <p:nvPr/>
        </p:nvPicPr>
        <p:blipFill>
          <a:blip r:embed="rId13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"/>
          <p:cNvPicPr/>
          <p:nvPr/>
        </p:nvPicPr>
        <p:blipFill>
          <a:blip r:embed="rId14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9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746280" y="5818320"/>
            <a:ext cx="76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Use of Contradictory words in the same phras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008160" y="3164040"/>
            <a:ext cx="3113280" cy="188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62040" y="58435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xymoron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8720" y="5533920"/>
            <a:ext cx="76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etition of vowel sounds in a series of words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990720" y="5818320"/>
            <a:ext cx="76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  </a:t>
            </a:r>
            <a:r>
              <a:rPr b="0" lang="en-US" sz="2400" spc="-1" strike="noStrike">
                <a:solidFill>
                  <a:srgbClr val="e6e6e6"/>
                </a:solidFill>
                <a:latin typeface="Arial Black"/>
              </a:rPr>
              <a:t>Assonanc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1886040" y="2901960"/>
            <a:ext cx="488304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"/>
          <p:cNvPicPr/>
          <p:nvPr/>
        </p:nvPicPr>
        <p:blipFill>
          <a:blip r:embed="rId2"/>
          <a:stretch/>
        </p:blipFill>
        <p:spPr>
          <a:xfrm>
            <a:off x="77760" y="5514840"/>
            <a:ext cx="8915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Lillian Yvette Arias</cp:lastModifiedBy>
  <dcterms:modified xsi:type="dcterms:W3CDTF">2010-12-01T19:12:01Z</dcterms:modified>
  <cp:revision>27</cp:revision>
  <dc:subject/>
  <dc:title>No Slide Title</dc:title>
</cp:coreProperties>
</file>